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9E5-7272-44FA-AF04-805D634BA98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9D18-F961-47FC-B6E5-02E775F91D7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EC6-94E0-402C-9435-34802532FD4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1A8-21F4-4407-899A-3C004A10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7F4-827E-424A-A328-C9E13EA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96E-C9B7-4648-BA84-E9409AE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F4E-B4CB-49B6-B831-69A32E6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362-0EB7-48FE-AF77-6A8AFEAC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938-6A95-4D66-B019-DE6AA5B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98C-6F7F-40E9-95F8-45CF5C8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9B4-976A-4957-A6F2-5DA3A201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01B-40C2-4C5B-A439-866C3DA9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1D7-F695-4DE4-88FD-C2BFA0E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030-802F-43D4-85B8-C6BA4B1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CB0-9251-480C-988E-A37D424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6B7-CA38-46BC-9733-677E4A9B7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slide" Target="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7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" Target="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122400" y="1792440"/>
            <a:ext cx="8746920" cy="2646360"/>
          </a:xfrm>
          <a:prstGeom prst="rect">
            <a:avLst/>
          </a:prstGeom>
          <a:ln w="0">
            <a:noFill/>
          </a:ln>
        </p:spPr>
      </p:pic>
      <p:grpSp>
        <p:nvGrpSpPr>
          <p:cNvPr id="49" name="Teardrop 5"/>
          <p:cNvGrpSpPr/>
          <p:nvPr/>
        </p:nvGrpSpPr>
        <p:grpSpPr>
          <a:xfrm>
            <a:off x="1054080" y="4267080"/>
            <a:ext cx="2036880" cy="1683000"/>
            <a:chOff x="1054080" y="4267080"/>
            <a:chExt cx="2036880" cy="1683000"/>
          </a:xfrm>
        </p:grpSpPr>
        <p:pic>
          <p:nvPicPr>
            <p:cNvPr id="50" name="Teardrop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054080" y="4267080"/>
              <a:ext cx="203688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65120" y="4527720"/>
              <a:ext cx="1413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6"/>
          <p:cNvSpPr/>
          <p:nvPr/>
        </p:nvSpPr>
        <p:spPr>
          <a:xfrm>
            <a:off x="1357200" y="4714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Click here to st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 Same Side Corner Rectangle 1"/>
          <p:cNvSpPr/>
          <p:nvPr/>
        </p:nvSpPr>
        <p:spPr>
          <a:xfrm>
            <a:off x="642960" y="500040"/>
            <a:ext cx="48578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36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37" name="Snip Same Side Corner Rectangle 3" descr=""/>
            <p:cNvPicPr/>
            <p:nvPr/>
          </p:nvPicPr>
          <p:blipFill>
            <a:blip r:embed="rId2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Rectangle 4" descr=""/>
          <p:cNvPicPr/>
          <p:nvPr/>
        </p:nvPicPr>
        <p:blipFill>
          <a:blip r:embed="rId3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40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41" name="Flowchart: Delay 5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44" name="Flowchart: Delay 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47" name="Flowchart: Delay 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50" name="Rounded Rectangle 8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53" name="Rounded Rectangle 9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56" name="Rounded Rectangle 10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59" name="Rounded Rectangle 11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litary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363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and Russia possessing most of th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viet Union's nuclear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368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71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72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7020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75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76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79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82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85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88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91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94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TextBox 20"/>
          <p:cNvGrpSpPr/>
          <p:nvPr/>
        </p:nvGrpSpPr>
        <p:grpSpPr>
          <a:xfrm>
            <a:off x="781200" y="1994040"/>
            <a:ext cx="8369280" cy="841320"/>
            <a:chOff x="781200" y="1994040"/>
            <a:chExt cx="8369280" cy="841320"/>
          </a:xfrm>
        </p:grpSpPr>
        <p:pic>
          <p:nvPicPr>
            <p:cNvPr id="398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85880" y="2000160"/>
              <a:ext cx="835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In the 1980s, the United States increased what against the USS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pl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3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03" name="Snip Same Side Corner Rectangle 5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04" name="Snip Same Side Corner Rectangle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Rectangle 6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-401760" y="1450800"/>
            <a:ext cx="9863280" cy="5046840"/>
          </a:xfrm>
          <a:prstGeom prst="rect">
            <a:avLst/>
          </a:prstGeom>
          <a:ln w="0">
            <a:noFill/>
          </a:ln>
        </p:spPr>
      </p:pic>
      <p:grpSp>
        <p:nvGrpSpPr>
          <p:cNvPr id="408" name="Snip Same Side Corner Rectangle 5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09" name="Snip Same Side Corner Rectangle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Rectangle 6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1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1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1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19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2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2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2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29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3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3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3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39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Round Same Side Corner Rectangle 3"/>
          <p:cNvGrpSpPr/>
          <p:nvPr/>
        </p:nvGrpSpPr>
        <p:grpSpPr>
          <a:xfrm>
            <a:off x="633240" y="493560"/>
            <a:ext cx="4872240" cy="938520"/>
            <a:chOff x="633240" y="493560"/>
            <a:chExt cx="4872240" cy="938520"/>
          </a:xfrm>
        </p:grpSpPr>
        <p:pic>
          <p:nvPicPr>
            <p:cNvPr id="54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33240" y="493560"/>
              <a:ext cx="487224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Rectangle 5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57" name="Snip Same Side Corner Rectangle 6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58" name="Snip Same Side Corner Rectangle 6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7"/>
          <p:cNvSpPr/>
          <p:nvPr/>
        </p:nvSpPr>
        <p:spPr>
          <a:xfrm>
            <a:off x="9144000" y="1928880"/>
            <a:ext cx="1214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8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62" name="Flowchart: Delay 11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63" name="Flowchart: Delay 1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Flowchart: Delay 13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66" name="Flowchart: Delay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Flowchart: Delay 14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69" name="Flowchart: Delay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5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72" name="Rounded Rectangle 15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6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75" name="Rounded Rectangle 16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7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78" name="Rounded Rectangle 17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8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81" name="Rounded Rectangle 18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TextBox 20"/>
          <p:cNvGrpSpPr/>
          <p:nvPr/>
        </p:nvGrpSpPr>
        <p:grpSpPr>
          <a:xfrm>
            <a:off x="781200" y="1994040"/>
            <a:ext cx="7796160" cy="809640"/>
            <a:chOff x="781200" y="1994040"/>
            <a:chExt cx="7796160" cy="809640"/>
          </a:xfrm>
        </p:grpSpPr>
        <p:pic>
          <p:nvPicPr>
            <p:cNvPr id="84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77961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85880" y="2000160"/>
              <a:ext cx="77868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The cold war started in 1945 and ended in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4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44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6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4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49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1" descr=""/>
          <p:cNvPicPr/>
          <p:nvPr/>
        </p:nvPicPr>
        <p:blipFill>
          <a:blip r:embed="rId1"/>
          <a:stretch/>
        </p:blipFill>
        <p:spPr>
          <a:xfrm>
            <a:off x="-1438200" y="-884160"/>
            <a:ext cx="12014280" cy="10004400"/>
          </a:xfrm>
          <a:prstGeom prst="rect">
            <a:avLst/>
          </a:prstGeom>
          <a:ln w="0">
            <a:noFill/>
          </a:ln>
        </p:spPr>
      </p:pic>
      <p:pic>
        <p:nvPicPr>
          <p:cNvPr id="453" name="Rectangle 2" descr=""/>
          <p:cNvPicPr/>
          <p:nvPr/>
        </p:nvPicPr>
        <p:blipFill>
          <a:blip r:embed="rId2"/>
          <a:stretch/>
        </p:blipFill>
        <p:spPr>
          <a:xfrm>
            <a:off x="1328760" y="5241960"/>
            <a:ext cx="595008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ound Same Side Corner Rectangle 5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90" name="Round Same Side Corner Rectangle 5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Rectangle 6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93" name="Snip Same Side Corner Rectangle 7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94" name="Snip Same Side Corner Rectangle 7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Rectangle 8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97" name="Flowchart: Delay 9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98" name="Flowchart: Delay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Flowchart: Delay 10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01" name="Flowchart: Delay 10" descr=""/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Flowchart: Delay 11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04" name="Flowchart: Delay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Rounded Rectangle 12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07" name="Rounded Rectangle 12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ounded Rectangle 13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10" name="Rounded Rectangle 13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ounded Rectangle 14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13" name="Rounded Rectangle 14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ounded Rectangle 15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16" name="Rounded Rectangle 15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20"/>
          <p:cNvGrpSpPr/>
          <p:nvPr/>
        </p:nvGrpSpPr>
        <p:grpSpPr>
          <a:xfrm>
            <a:off x="781200" y="1994040"/>
            <a:ext cx="8369280" cy="749160"/>
            <a:chOff x="781200" y="1994040"/>
            <a:chExt cx="8369280" cy="749160"/>
          </a:xfrm>
        </p:grpSpPr>
        <p:pic>
          <p:nvPicPr>
            <p:cNvPr id="119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85880" y="2000160"/>
              <a:ext cx="8358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Did the USSR and the Western World ever officially clash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es on 1995 in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yb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25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28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29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32" name="Flowchart: Delay 7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133" name="Flowchart: Delay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Flowchart: Delay 8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36" name="Flowchart: Delay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Flowchart: Delay 9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39" name="Flowchart: Delay 9" descr=""/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Rounded Rectangle 10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42" name="Rounded Rectangle 10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Rounded Rectangle 11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45" name="Rounded Rectangle 11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ounded Rectangle 12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48" name="Rounded Rectangle 12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ounded Rectangle 13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51" name="Rounded Rectangle 13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xy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155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.Rather they expressed conflict through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uclear and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60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63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64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67" name="Flowchart: Delay 7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168" name="Flowchart: Delay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Flowchart: Delay 8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71" name="Flowchart: Delay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Flowchart: Delay 9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74" name="Flowchart: Delay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ounded Rectangle 10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77" name="Rounded Rectangle 10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ounded Rectangle 11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80" name="Rounded Rectangle 11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12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83" name="Rounded Rectangle 12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13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86" name="Rounded Rectangle 13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19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In 1980's the USSR suffered from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vere economic 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95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98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99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02" name="Flowchart: Delay 19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03" name="Flowchart: Delay 1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Flowchart: Delay 20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06" name="Flowchart: Delay 2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Flowchart: Delay 21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09" name="Flowchart: Delay 2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22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12" name="Rounded Rectangle 22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23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15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24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18" name="Rounded Rectangle 24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ounded Rectangle 25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21" name="Rounded Rectangle 25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Box 20"/>
          <p:cNvGrpSpPr/>
          <p:nvPr/>
        </p:nvGrpSpPr>
        <p:grpSpPr>
          <a:xfrm>
            <a:off x="781200" y="1994040"/>
            <a:ext cx="8369280" cy="688680"/>
            <a:chOff x="781200" y="1994040"/>
            <a:chExt cx="8369280" cy="688680"/>
          </a:xfrm>
        </p:grpSpPr>
        <p:pic>
          <p:nvPicPr>
            <p:cNvPr id="225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85880" y="2000160"/>
              <a:ext cx="8358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Calibri"/>
                </a:rPr>
                <a:t>Soviet President Mikhail Gorbachev introduced the liberalizing reforms of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230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33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234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37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38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41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44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47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50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53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56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26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..and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la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265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68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269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72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73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76" name="Flowchart: Delay 6" descr=""/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79" name="Flowchart: Delay 7" descr=""/>
            <p:cNvPicPr/>
            <p:nvPr/>
          </p:nvPicPr>
          <p:blipFill>
            <a:blip r:embed="rId8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82" name="Rounded Rectangle 8" descr=""/>
            <p:cNvPicPr/>
            <p:nvPr/>
          </p:nvPicPr>
          <p:blipFill>
            <a:blip r:embed="rId9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85" name="Rounded Rectangle 9" descr=""/>
            <p:cNvPicPr/>
            <p:nvPr/>
          </p:nvPicPr>
          <p:blipFill>
            <a:blip r:embed="rId10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88" name="Rounded Rectangle 10" descr=""/>
            <p:cNvPicPr/>
            <p:nvPr/>
          </p:nvPicPr>
          <p:blipFill>
            <a:blip r:embed="rId11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91" name="Rounded Rectangle 11" descr=""/>
            <p:cNvPicPr/>
            <p:nvPr/>
          </p:nvPicPr>
          <p:blipFill>
            <a:blip r:embed="rId12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295" name="TextBox 20" descr=""/>
            <p:cNvPicPr/>
            <p:nvPr/>
          </p:nvPicPr>
          <p:blipFill>
            <a:blip r:embed="rId13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When did the Soviet Union collaps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300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03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04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07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08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11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14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17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20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23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26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lers of muff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33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that left the United States as the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babj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minant militar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3:54:26Z</dcterms:created>
  <dc:creator>user</dc:creator>
  <dc:description/>
  <dc:language>en-US</dc:language>
  <cp:lastModifiedBy>user</cp:lastModifiedBy>
  <dcterms:modified xsi:type="dcterms:W3CDTF">2009-09-14T00:26:02Z</dcterms:modified>
  <cp:revision>16</cp:revision>
  <dc:subject/>
  <dc:title>Cold war - quiz</dc:title>
</cp:coreProperties>
</file>